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BEF-853F-446E-A932-33FCB684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3B4-DD8D-4D69-B440-A5BA8842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B95-B815-4866-8CFC-1E8431E0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C0C-3D8F-4782-AF9E-AE7BB915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33A-E34E-4ECC-8755-E66B0EA1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E49-2B90-4DDD-A3C6-2B0B8E76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D29-4536-4C61-9916-EC0A35A4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A90-4FFF-48A2-9B6D-B758571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769-7C48-487D-93DB-62782F1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ADF-34FE-451F-9895-CB3E2B8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C3D-0A13-4D1C-AB22-CB2DE449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30A-EBCB-4F42-A103-1A4CC7BE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3CB-D929-4B81-976E-E7183EDE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xis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you have your assig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0 = 2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y = 2(0) –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737240" y="1843200"/>
            <a:ext cx="3860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x + 6(0)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2(0) + 6y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648320" y="1765440"/>
            <a:ext cx="40384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x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x = 2(0)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6(0) = 2y –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648320" y="1768320"/>
            <a:ext cx="40384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y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  0= ½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x wi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 y = ½ (0)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2:57:33Z</dcterms:created>
  <dc:creator>Preferred Customer</dc:creator>
  <dc:description/>
  <dc:language>en-US</dc:language>
  <cp:lastModifiedBy>Troy</cp:lastModifiedBy>
  <dcterms:modified xsi:type="dcterms:W3CDTF">2009-10-14T14:11:15Z</dcterms:modified>
  <cp:revision>4</cp:revision>
  <dc:subject/>
  <dc:title>Axis Intercepts</dc:title>
</cp:coreProperties>
</file>